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D6A-BC91-4315-8B10-9187FD91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7F6-41DF-44A1-9A42-8DB90708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71C-E6F5-47C5-A312-7482C436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C80-8E3E-414A-9156-763D254B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2C82-C809-49E5-B3EB-DCDF681B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ED8B-AE83-458F-8FBC-814F9FF8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98E8-AEF6-4E7F-B0C9-BEC23D74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ED3A-2972-40E6-90C8-F0EB0343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BCE2-05C9-4507-9451-223BE6CE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5645-3F57-463D-B21A-38A91C98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2CBE-A594-4A26-BA26-6AE7D6E4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8DC-73F1-4411-99D9-D37992FE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B105-FBF4-4F44-9247-17C5B365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7134-42F7-449B-A85E-F9E2991C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0F11-28FE-467C-B7A4-0F942155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7391-A001-4BB0-97EF-E06C8A01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A474-DADE-4EA5-8432-EA5387D2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95E-EEEF-496A-BB59-3B8C78DB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D58-49C8-44E9-BE31-C65286E3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BCC-A4FE-4CD4-9329-65DC79BB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EE4-E83A-4868-AF2C-C98052F6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695-C792-47F0-92DE-2949C4AE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D6C-BD3B-4FE4-B713-305590EE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105-19B9-4D29-BDA3-4A39D21E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2DC8-51CE-4E29-8E8C-C2A03DCDBB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5C4A-34AD-4C78-9BB5-DE9D2D9E0E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19685" t="0" r="0" b="0"/>
          <a:stretch/>
        </p:blipFill>
        <p:spPr>
          <a:xfrm>
            <a:off x="-4680" y="6307200"/>
            <a:ext cx="9185040" cy="550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4328640" y="6400440"/>
            <a:ext cx="48150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7320" y="735120"/>
            <a:ext cx="7988400" cy="489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rcRect l="0" t="0" r="0" b="26247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466200"/>
            <a:ext cx="7010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it-Line Leakage Cancellation: </a:t>
            </a:r>
            <a:br>
              <a:rPr sz="3600"/>
            </a:b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Design and Test Auto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4A2B-AF9B-415D-84BB-9E5CEC2EDC7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-BIST Design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havio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NC-Veri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RTL Compi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 and Route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Encounter</a:t>
            </a:r>
            <a:r>
              <a:rPr b="1" lang="en-US" sz="26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on with Custom Memory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Virtuo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351680" y="236124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4364280" y="329940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4364280" y="429012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64280" y="5280840"/>
            <a:ext cx="381240" cy="182520"/>
          </a:xfrm>
          <a:prstGeom prst="rightArrow">
            <a:avLst>
              <a:gd name="adj1" fmla="val 50000"/>
              <a:gd name="adj2" fmla="val 52219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C7D-5634-4E8A-8360-8D64EB6781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-Down Flow Issues Fac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L Comp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used Nets connect to VDD, V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puts of standard blocks e.g. Carry-In of Ad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used bus signals: e.g. Z[4] of a bus Z[11:0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&gt;   vs    [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o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533412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3D4-52B3-4A3B-80BF-37670E54D38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time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84F-EF37-453C-A9F3-E8FAF5316AC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4038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752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liver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Cance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Chip High Speed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B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2362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OTTOM – UP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6641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OP – DOW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E9B-321F-4700-9FB5-6C3080C9A1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als &amp; Constraints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1 Cache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re Bit-Cells, Less Periph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er Rea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1 bit-cells use Low-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-Vdd must be same as Core-Vd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Can’t use Multi-Vdd to increase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2FF-F960-4DE5-8099-AF9DCE202B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4440" y="990720"/>
            <a:ext cx="8534520" cy="33368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-15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4156200"/>
            <a:ext cx="79246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llenges (Scaling issu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solution: Reduce # cells on a bit-line   </a:t>
            </a:r>
            <a:r>
              <a:rPr b="1" lang="en-US" sz="2100" spc="-1" strike="noStrike">
                <a:solidFill>
                  <a:srgbClr val="cccc00"/>
                </a:solidFill>
                <a:latin typeface="Arial"/>
              </a:rPr>
              <a:t>=&gt; Lower Dens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E3B-8FF1-4213-9D66-2995B46B01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001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4689000"/>
            <a:ext cx="80773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differential =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eaks, differential lowers  (data-dependent to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00"/>
                </a:solidFill>
                <a:latin typeface="Arial"/>
              </a:rPr>
              <a:t>More time needed to generate same differential   =&gt; Lower Spe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15756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97440" y="1066680"/>
            <a:ext cx="302724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EC2-BAEE-41EC-A74E-C1CE97D78E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is Bit-line leakage an issu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 technology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Issu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igh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, high lea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esul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mpact on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-threshold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Issu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esul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nergy penalty due to higher required BL s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Temperature Compliant Mem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native memo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166-DBA3-4EE2-94BA-195BEBED47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it-line Leakage Cance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nse leakage value during pre-char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ject opposite current during re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awback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-&gt; I conversion inaccurac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-charge to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933960" cy="2371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3244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gawa et al, 2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FFE-6FF6-4B09-9332-ABF459590B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09680" y="234936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gh Speed Testing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909960" y="3263400"/>
            <a:ext cx="1020960" cy="811800"/>
            <a:chOff x="3909960" y="3263400"/>
            <a:chExt cx="1020960" cy="811800"/>
          </a:xfrm>
        </p:grpSpPr>
        <p:sp>
          <p:nvSpPr>
            <p:cNvPr id="254" name=""/>
            <p:cNvSpPr/>
            <p:nvPr/>
          </p:nvSpPr>
          <p:spPr>
            <a:xfrm>
              <a:off x="3909960" y="3263760"/>
              <a:ext cx="1080" cy="811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909960" y="3668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909960" y="3263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59920" y="3587760"/>
              <a:ext cx="171000" cy="163080"/>
            </a:xfrm>
            <a:prstGeom prst="ellipse">
              <a:avLst/>
            </a:prstGeom>
            <a:solidFill>
              <a:srgbClr val="cccc00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752480" y="3657600"/>
            <a:ext cx="2143080" cy="14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3657600"/>
            <a:ext cx="205740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2133720"/>
            <a:ext cx="1828800" cy="1143000"/>
          </a:xfrm>
          <a:prstGeom prst="wedgeRoundRectCallout">
            <a:avLst>
              <a:gd name="adj1" fmla="val -6768"/>
              <a:gd name="adj2" fmla="val 76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23623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3473280"/>
            <a:ext cx="228600" cy="381240"/>
          </a:xfrm>
          <a:prstGeom prst="rect">
            <a:avLst/>
          </a:prstGeom>
          <a:solidFill>
            <a:srgbClr val="cc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267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GHz 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4343400"/>
            <a:ext cx="2286000" cy="1219320"/>
          </a:xfrm>
          <a:prstGeom prst="wedgeRoundRectCallout">
            <a:avLst>
              <a:gd name="adj1" fmla="val -53402"/>
              <a:gd name="adj2" fmla="val -9270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44956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1981080"/>
            <a:ext cx="2057400" cy="1067040"/>
          </a:xfrm>
          <a:prstGeom prst="wedgeRoundRectCallout">
            <a:avLst>
              <a:gd name="adj1" fmla="val 1699"/>
              <a:gd name="adj2" fmla="val 10654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1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9520" y="35496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35449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57150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can make a FAST inverter, but you cant se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7CE-1B97-4E7D-8C2D-9C0C56AD2AD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mory BI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10360" y="1936800"/>
            <a:ext cx="0" cy="2136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3333600"/>
            <a:ext cx="736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33680" y="3116160"/>
            <a:ext cx="1192320" cy="16344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3160" y="2798640"/>
            <a:ext cx="2050920" cy="5112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21000" y="2438280"/>
            <a:ext cx="2970360" cy="8604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2208240"/>
            <a:ext cx="4470480" cy="895320"/>
          </a:xfrm>
          <a:custGeom>
            <a:avLst/>
            <a:gdLst/>
            <a:ahLst/>
            <a:rect l="l" t="t" r="r" b="b"/>
            <a:pathLst>
              <a:path w="2816" h="564">
                <a:moveTo>
                  <a:pt x="0" y="0"/>
                </a:moveTo>
                <a:lnTo>
                  <a:pt x="2816" y="0"/>
                </a:lnTo>
                <a:lnTo>
                  <a:pt x="2816" y="56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345276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1920" y="34783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4800" y="35035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55880" y="3567240"/>
            <a:ext cx="0" cy="723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54080" y="355428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70800" y="1816200"/>
            <a:ext cx="0" cy="1487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45320" y="1828800"/>
            <a:ext cx="0" cy="145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94280" y="1841400"/>
            <a:ext cx="0" cy="144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12920" y="3424320"/>
            <a:ext cx="3273480" cy="838080"/>
          </a:xfrm>
          <a:custGeom>
            <a:avLst/>
            <a:gdLst/>
            <a:ahLst/>
            <a:rect l="l" t="t" r="r" b="b"/>
            <a:pathLst>
              <a:path w="2062" h="528">
                <a:moveTo>
                  <a:pt x="0" y="528"/>
                </a:moveTo>
                <a:lnTo>
                  <a:pt x="462" y="528"/>
                </a:lnTo>
                <a:lnTo>
                  <a:pt x="462" y="0"/>
                </a:lnTo>
                <a:lnTo>
                  <a:pt x="2062" y="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54080" y="1522440"/>
            <a:ext cx="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3200" y="2043000"/>
            <a:ext cx="2755800" cy="14734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863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06680" y="939960"/>
            <a:ext cx="4945320" cy="1126800"/>
          </a:xfrm>
          <a:custGeom>
            <a:avLst/>
            <a:gdLst/>
            <a:ahLst/>
            <a:rect l="l" t="t" r="r" b="b"/>
            <a:pathLst>
              <a:path w="4211" h="978">
                <a:moveTo>
                  <a:pt x="27" y="380"/>
                </a:moveTo>
                <a:cubicBezTo>
                  <a:pt x="18" y="305"/>
                  <a:pt x="0" y="207"/>
                  <a:pt x="36" y="153"/>
                </a:cubicBezTo>
                <a:cubicBezTo>
                  <a:pt x="72" y="99"/>
                  <a:pt x="121" y="61"/>
                  <a:pt x="245" y="53"/>
                </a:cubicBezTo>
                <a:cubicBezTo>
                  <a:pt x="369" y="45"/>
                  <a:pt x="614" y="103"/>
                  <a:pt x="781" y="107"/>
                </a:cubicBezTo>
                <a:cubicBezTo>
                  <a:pt x="948" y="111"/>
                  <a:pt x="1068" y="80"/>
                  <a:pt x="1245" y="80"/>
                </a:cubicBezTo>
                <a:cubicBezTo>
                  <a:pt x="1422" y="80"/>
                  <a:pt x="1647" y="108"/>
                  <a:pt x="1845" y="107"/>
                </a:cubicBezTo>
                <a:cubicBezTo>
                  <a:pt x="2043" y="106"/>
                  <a:pt x="2264" y="79"/>
                  <a:pt x="2434" y="75"/>
                </a:cubicBezTo>
                <a:cubicBezTo>
                  <a:pt x="2604" y="71"/>
                  <a:pt x="2725" y="81"/>
                  <a:pt x="2863" y="80"/>
                </a:cubicBezTo>
                <a:cubicBezTo>
                  <a:pt x="3001" y="79"/>
                  <a:pt x="3149" y="73"/>
                  <a:pt x="3263" y="71"/>
                </a:cubicBezTo>
                <a:cubicBezTo>
                  <a:pt x="3377" y="69"/>
                  <a:pt x="3462" y="60"/>
                  <a:pt x="3545" y="71"/>
                </a:cubicBezTo>
                <a:cubicBezTo>
                  <a:pt x="3628" y="82"/>
                  <a:pt x="3696" y="133"/>
                  <a:pt x="3763" y="135"/>
                </a:cubicBezTo>
                <a:cubicBezTo>
                  <a:pt x="3830" y="137"/>
                  <a:pt x="3873" y="88"/>
                  <a:pt x="3945" y="80"/>
                </a:cubicBezTo>
                <a:cubicBezTo>
                  <a:pt x="4017" y="72"/>
                  <a:pt x="4185" y="0"/>
                  <a:pt x="4198" y="87"/>
                </a:cubicBezTo>
                <a:cubicBezTo>
                  <a:pt x="4211" y="174"/>
                  <a:pt x="4129" y="477"/>
                  <a:pt x="4025" y="600"/>
                </a:cubicBezTo>
                <a:cubicBezTo>
                  <a:pt x="3921" y="723"/>
                  <a:pt x="3757" y="786"/>
                  <a:pt x="3572" y="822"/>
                </a:cubicBezTo>
                <a:cubicBezTo>
                  <a:pt x="3387" y="858"/>
                  <a:pt x="3072" y="834"/>
                  <a:pt x="2916" y="817"/>
                </a:cubicBezTo>
                <a:cubicBezTo>
                  <a:pt x="2760" y="800"/>
                  <a:pt x="2767" y="699"/>
                  <a:pt x="2635" y="721"/>
                </a:cubicBezTo>
                <a:cubicBezTo>
                  <a:pt x="2503" y="743"/>
                  <a:pt x="2318" y="920"/>
                  <a:pt x="2126" y="949"/>
                </a:cubicBezTo>
                <a:cubicBezTo>
                  <a:pt x="1934" y="978"/>
                  <a:pt x="1722" y="909"/>
                  <a:pt x="1480" y="898"/>
                </a:cubicBezTo>
                <a:cubicBezTo>
                  <a:pt x="1238" y="887"/>
                  <a:pt x="859" y="911"/>
                  <a:pt x="671" y="882"/>
                </a:cubicBezTo>
                <a:cubicBezTo>
                  <a:pt x="483" y="853"/>
                  <a:pt x="450" y="767"/>
                  <a:pt x="353" y="721"/>
                </a:cubicBezTo>
                <a:cubicBezTo>
                  <a:pt x="256" y="675"/>
                  <a:pt x="144" y="661"/>
                  <a:pt x="90" y="604"/>
                </a:cubicBezTo>
                <a:cubicBezTo>
                  <a:pt x="36" y="547"/>
                  <a:pt x="36" y="455"/>
                  <a:pt x="27" y="380"/>
                </a:cubicBezTo>
                <a:close/>
              </a:path>
            </a:pathLst>
          </a:custGeom>
          <a:solidFill>
            <a:srgbClr val="0066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51560" y="3100320"/>
            <a:ext cx="644760" cy="46512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27920" y="3957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6840" y="11599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Speed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080" y="119592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Tester (Slow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071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279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84200" y="259884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Address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5480" y="2166840"/>
            <a:ext cx="474840" cy="117324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84200" y="217332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Data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84200" y="3024360"/>
            <a:ext cx="1935360" cy="3171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ontrol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25400" y="4271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96600" y="42714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009640" y="3004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121520" y="3587040"/>
            <a:ext cx="557280" cy="27612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40360" y="4051440"/>
            <a:ext cx="4343400" cy="1981080"/>
          </a:xfrm>
          <a:prstGeom prst="bevel">
            <a:avLst>
              <a:gd name="adj" fmla="val 152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0:40:37Z</dcterms:created>
  <dc:creator>Sudhanshu</dc:creator>
  <dc:description/>
  <dc:language>en-US</dc:language>
  <cp:lastModifiedBy>Sudhanshu</cp:lastModifiedBy>
  <dcterms:modified xsi:type="dcterms:W3CDTF">2010-05-04T14:24:42Z</dcterms:modified>
  <cp:revision>62</cp:revision>
  <dc:subject/>
  <dc:title>Bit-Line Leakage Cancellation:  Design and Test Automation</dc:title>
</cp:coreProperties>
</file>